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6C1-A7F7-4E58-8469-EAEDB04F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C64-6055-4B17-81A5-D3CC110A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50C-1692-4B1B-BD8F-6CE140AC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183-F939-43E9-A0C3-F6985579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3BD7-CA74-4E4C-840B-0785F326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D695-0C2B-4AF4-B4B1-DF0DB665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9C3B-CAA1-4679-BDA4-CE0EFF73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CF07-ED68-49A1-91A5-1FF31AC2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52CD-17BE-4330-BEDC-8E459984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DB1D-587D-44E6-8EDA-E137E72F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539F-427D-4BA7-B403-0951BC1F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B5D-7E07-4AF5-BF17-A805EF23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A5EF-19B1-49B2-B2CD-02B3106A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8212-E6AC-4753-8D4F-50489C2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3CC0-F9CD-4C7C-91F1-7C4DE25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4199-09E6-4960-B329-E09CEC74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4EC4-6347-4C2A-9126-43455AC5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173-F8D1-41B7-B89E-2BA4C508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FEA-1506-49C8-83C9-466FC48F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2A9-3335-4B7C-8DB8-35CCCE4C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731-1531-4411-AECE-DA624472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540-2966-49CE-984C-24AFD62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9F2-2E36-4AC7-8D5E-101BF066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76F-C64E-48B3-AEDB-2A4B9188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A6D9-A8D5-4D41-9DD4-3121C2CE6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1E86-1215-49D0-881F-BD7E34CA4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Big Picture: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during Understandings and Essential Questions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Content Placeholder 3" descr="Learning_Cycle_Tree.png"/>
          <p:cNvPicPr/>
          <p:nvPr/>
        </p:nvPicPr>
        <p:blipFill>
          <a:blip r:embed="rId1"/>
          <a:stretch/>
        </p:blipFill>
        <p:spPr>
          <a:xfrm>
            <a:off x="3886200" y="2354400"/>
            <a:ext cx="1606680" cy="358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aracteristics of an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nduring Understan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olve the big ideas that give meaning and importance to f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transfer to other topics, fields, and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e usually not obvious or concr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stify the use of teaching a sk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e deliberately framed as general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amples of Enduring Understa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ors write with different purposes in m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ers develop a deeper understanding through reflection of 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 the structures that humans have to serve different functions in growth and surviv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ing number sense and number relation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Your Turn...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urn to a partner and describe the common elements of an enduring understandin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Essential Question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ctr">
              <a:lnSpc>
                <a:spcPct val="13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sential questions help drive instru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are the Common Element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00200" y="2057400"/>
            <a:ext cx="69343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ave no simple, right answ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aise other important questions, often cross subject boundar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Often address philosophical or conceptual foundations of a discipl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nect to students’ lives and interes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amples of Essential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reading influence 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hat ways is the past about 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words or phrases come fr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akes me healt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show a part of someth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Your Turn...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urn to a partner and describe the common elements of an essential ques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1:45:02Z</dcterms:created>
  <dc:creator>Herbert Hoover Middle School</dc:creator>
  <dc:description/>
  <dc:language>en-US</dc:language>
  <cp:lastModifiedBy>.</cp:lastModifiedBy>
  <cp:lastPrinted>2002-08-20T20:16:17Z</cp:lastPrinted>
  <dcterms:modified xsi:type="dcterms:W3CDTF">2009-10-02T02:03:09Z</dcterms:modified>
  <cp:revision>63</cp:revision>
  <dc:subject/>
  <dc:title>The Skillful Teacher: Expectations </dc:title>
</cp:coreProperties>
</file>